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png" ContentType="image/png"/>
  <Override PartName="/ppt/media/image4.png" ContentType="image/pn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gif012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492120"/>
          </a:xfrm>
          <a:prstGeom prst="rect">
            <a:avLst/>
          </a:prstGeom>
          <a:ln w="0">
            <a:noFill/>
          </a:ln>
        </p:spPr>
      </p:pic>
      <p:pic>
        <p:nvPicPr>
          <p:cNvPr id="3" name="gif03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08040"/>
          </a:xfrm>
          <a:prstGeom prst="rect">
            <a:avLst/>
          </a:prstGeom>
          <a:ln w="0">
            <a:noFill/>
          </a:ln>
        </p:spPr>
      </p:pic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2514600" y="6400800"/>
            <a:ext cx="1905120" cy="3988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上一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4876920" y="6400800"/>
            <a:ext cx="1904760" cy="3988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下一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6934320" y="6400800"/>
            <a:ext cx="1981080" cy="3988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1680" y="87480"/>
            <a:ext cx="2583000" cy="3070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第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章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Arial"/>
              </a:rPr>
              <a:t>SQL Server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关系数据库简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867280" y="76320"/>
            <a:ext cx="3048120" cy="3070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Arial"/>
              </a:rPr>
              <a:t>SQL Server 200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数据库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简明教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章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Arial"/>
              </a:rPr>
              <a:t>SQL Server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关系数据库简介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52480" y="1980720"/>
            <a:ext cx="6096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.1   </a:t>
            </a:r>
            <a:r>
              <a:rPr b="1" lang="zh-CN" sz="3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SQL Server </a:t>
            </a:r>
            <a:r>
              <a:rPr b="1" lang="zh-CN" sz="3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特点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3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1.2   </a:t>
            </a:r>
            <a:r>
              <a:rPr b="1" lang="zh-CN" sz="3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SQL Server</a:t>
            </a:r>
            <a:r>
              <a:rPr b="1" lang="zh-CN" sz="3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的安装和配置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3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1.3   </a:t>
            </a:r>
            <a:r>
              <a:rPr b="1" lang="zh-CN" sz="3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SQL Server </a:t>
            </a:r>
            <a:r>
              <a:rPr b="1" lang="zh-CN" sz="3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工具和实用程序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6400800"/>
            <a:ext cx="1905120" cy="3988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开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6400800"/>
            <a:ext cx="1981080" cy="3988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目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1.2.2  SQL Server 2000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的安装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 2000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的安装过程与其它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Microsoft Windows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系列产品类似。 用户可根据向导提示，选择需要的选项一步一步地完成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1.2.3  SQL Server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升级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如果计算机中安装有旧的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版本，那么安装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SQL Server 200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时需要做以下工作，以确保系统能退回到升级前的状态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检查操作系统是否满足安装要求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检查磁盘空间是否足够安装新的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SQL Server 200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版本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备份包括系统数据库在内的所有数据库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备份操作系统的注册表，用于恢复原有的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关闭任何与旧的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相关的应用程序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安装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SQL Server 200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数据库管理系统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1.2.4  SQL Server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系统数据库简介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QL Server 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系统数据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 Mast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库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系统最重要的数据库，它记录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系统的所有系统信息。这些系统信息包括所有的登录信息、系统设置信息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初始化信息和其它系统数据库及用户数据库的相关信息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. Mode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库是所有用户数据库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empd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库的模板数据库，它含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ast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库所有系统表的子集，这些系统数据库是每个用户定义数据库需要的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3. Msdb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数据库是代理服务数据库，为其警报、任务调度和记录操作员的操作提供存储空间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4. Tempdb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是一个临时数据库，它为所有的临时表、临时存储过程及其它临时操作提供存储空间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5. Pubs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Northwind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数据库是两个实例数据库，它们可以作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的学习工具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1.2.5  SQL Server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系统表简介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系统目录是由描述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系统的数据库、基表、视图和索引等对象的结构的系统表组成。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经常访问系统目录，检索系统正常运行所需的必要信息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几个最重要的系统表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. Sysobject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表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SQL Server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主系统表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sysobject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出现在每个数据库中，它对每个数据库对象含有一行记录。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. Syscolumn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表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系统表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syscolumn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出现在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master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数据库和每个用户自定义的数据库中，它对基表或者视图的每个列和存储过程中的每个参数含有一行记录。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3. Sysindexe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表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系统表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sysindexe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出现在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master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数据库和每个用户自定义的数据库中，它对每个索引和没有聚簇索引的每个表含有一行记录，它还对包括文本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像数据的每个表含有一行记录。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4. Sysusers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表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系统表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sysusers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出现在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master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数据库和每个用户自定义的数据库中，它对整个数据库中的每个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用户、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用户组、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SQL Server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用户或者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SQL Server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角色含有一行记录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5. Sysdatabases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表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系统表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sysdatabases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对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SQL Server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系统上的每个系统数据库和用户自定义的数据库含有一行记录，它只出现在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master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数据库中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6. Sysdepends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表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系统表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Sysdepends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对表、视图和存储过程之间的每个依赖关系含有一行记录，它出现在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master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数据库和每个用户自定义的数据库中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7. Sysconstraints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表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系统表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sysconstraints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对使用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CREATE TABLE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或者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ALTER TABLE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语句为数据库对象定义的每个完整性约束含有一行记录，它出现在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master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数据库和每个用户自定义的数据库中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1.3   SQL Server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工具和实用程序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.3.1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企业管理器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.3.2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服务管理器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.3.3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查询分析器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.3.4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分布式事务处理协调器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.3.5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性能监视器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1828800"/>
            <a:ext cx="4267080" cy="29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.3.6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导入和导出数据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.3.7  SQL Server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分析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.3.8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服务器网络实用工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.3.9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客户端网络实用工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.3.10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联机帮助文档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1.3.1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企业管理器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企业管理器是基于一种新的被称为微软管理控制台（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Microsoft Management Consol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）的公共服务器管理环境，它是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中最重要的一个管理工具。企业管理器不仅能够配置系统环境和管理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而且由于它能够以层叠列表的形式来显示所有的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对象，因而所有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对象的建立与管理都可以通过它来完成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Arial"/>
              </a:rPr>
              <a:t>SQL Server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关系数据库简介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是由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Microsoft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开发和推广的关系数据库管理系统（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DBMS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它最初是由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Microsoft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ybas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Ashton-Tat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三家公司共同开发的，并于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988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年推出了第一个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OS/2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版本。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近年来不断更新版本，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996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Microsoft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推出了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 6.5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版本；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998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 7.0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版本和用户见面；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 2000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Microsoft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公司于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年推出的最新版本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利用企业管理器可以完成的操作有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管理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服务器；建立与管理数据库；建立与管理表、视图、存储过程、触发程序、角色、规则、默认值等数据库对象，以及用户定义的数据类型；备份数据库和事务日志、恢复数据库；复制数据库；设置任务调度；设置警报；提供跨服务器的拖放控制操作；管理用户帐户；建立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Transact-SQL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命令语句以及管理和控制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Mail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1444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1-20bmp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1371600"/>
            <a:ext cx="6019920" cy="3174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92280" y="4952880"/>
            <a:ext cx="618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-20   SQL Server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企业管理器（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Enterprise Manager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界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1.3.2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服务管理器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Service Manager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服务管理器是在服务器端实际工作时最有用的实用程序，其界面如图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-2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所示。服务管理器用来启动、暂停、继续和停止数据库服务器的实时服务，其提供的服务包括：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 Agent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MSDTC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Microsoft Distributed Transaction Coordinato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微软分布式事务协调器）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242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1-2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362320" y="1330200"/>
            <a:ext cx="4267080" cy="3470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92520" y="5105520"/>
            <a:ext cx="58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-21   SQL Server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服务管理器（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Service Manager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界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1.3.3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查询分析器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Query Analyzer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 2000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新的图形化查询分析器用于输入和执行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Transaction-SQL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语句，并且迅速查看这些语句的结果，以分析和处理数据库中的数据。这是一个非常实用的工具，对掌握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语言，深入理解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的管理工作有很大帮助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1.3.4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分布式事务处理协调器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Distributed Transaction Coordinator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用于提供和管理不同服务器之间的分布式事务处理，这些服务器必须是基于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Windows 9x/2000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系列操作系统的服务器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1.3.5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性能监视器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Performance Monitor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它将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操作系统的性能监视器和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集成起来，使用它可以查看和统计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系统的运行情况，查找影响系统性能的主要因素，从而为改进和优化系统、提高系统性能提供依据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1.3.6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导入和导出数据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Imput and Export Data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导入和导出数据采用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DTC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导入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导出向导来完成。此向导包含了所有的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DTC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Data Transformation Services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）工具，提供了在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OLE DB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数据源之间复制数据的最简捷的方法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Arial"/>
              </a:rPr>
              <a:t>1.3.7  SQL Server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分析器（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Arial"/>
              </a:rPr>
              <a:t>Profiler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是一个图形化的管理工具，用于监督、记录和检查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数据库的使用情况。对系统管理员来说，它是一个连续实时地捕获用户活动情况的间谍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Arial"/>
              </a:rPr>
              <a:t>1.3.8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服务器网络实用工具（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Arial"/>
              </a:rPr>
              <a:t>Server Network Utility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3200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用来配置服务器端网络连接和设置相关参数等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   SQL Server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特点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．真正的客户机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服务器体系结构。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．图形化用户界面，使系统管理和数据库管理更加直观、简单。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．丰富的编程接口工具，为用户进行程序设计提供了更大的选择余地。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完全集成，利用了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NT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的许多功能，如发送和接受消息，管理登录安全性等。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也可以很好地与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Microsoft BackOffice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产品集成。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1.3.9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客户端网络实用工具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Client Network Utility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用来配置客户端的网络连接、管理和测定客户端的网络库等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Arial"/>
              </a:rPr>
              <a:t>1.3.10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联机帮助文档（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Arial"/>
              </a:rPr>
              <a:t>Books Online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 2000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提供了大量的联机文档，它具有索引和全文搜索能力，可根据关键词来快速查找用户所需信息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computer1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2043000" cy="2043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66680" y="8380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66"/>
                </a:solidFill>
                <a:latin typeface="Monotype Corsiva"/>
              </a:rPr>
              <a:t>Thank you very much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0920" y="149472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谢谢您的光临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6400800"/>
            <a:ext cx="1904760" cy="3988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下一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．具有很好的伸缩性，可跨越从运行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Windows 95/98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的膝上型电脑到运行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Windows 2000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的大型多处理器等多种平台使用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．对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技术的支持，使用户能够很容易地将数据库中的数据发布到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页面上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提供数据仓库功能，这个功能只在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Oracl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和其他更昂贵的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DBMS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中才有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SQL Server 2000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与以前版本相比较</a:t>
            </a:r>
            <a:br>
              <a:rPr sz="3000"/>
            </a:b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又具有以下新特性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支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XML(Extensive Markup Languag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扩展标记语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强大的基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分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支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OLE D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多种查询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支持分布式的分区视图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   SQL Server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的安装和配置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400" y="167616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.2.1  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SQL Server 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环境需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1.2.2  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SQL Server 2000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的安装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1.2.3  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SQL Server 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升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1.2.4  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SQL Server 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系统数据库简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2.5  SQL Server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系统表简介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1.2.1  SQL Server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环境需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182844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 20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常见的版本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企业版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nterprise Editio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标准版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tandard Editio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人版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ersonal Editio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开发者版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eveloper Editio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、安装、运行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SQL Server 2000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的硬件需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）计算机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Inter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及其兼容计算机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Pentium 166Mz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或者更高处理器或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DEC Alpha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和其兼容系统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）内存（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RAM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企业版最少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64MB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内存，其他版本最少需要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32MB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内存，建议使用更多的内存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）硬盘空间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完全安装（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Full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）需要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180MB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的空间，典型安装（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Typical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）需要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170MB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的空间，最小安装（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Minimum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）需要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65MB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的空间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安装、运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 20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软件需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SQL Server 200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企业版必须运行于安装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Windows NT Server Enterprise Edition 4.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或者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Windows2000 Advanced Server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以及更高版本的操作系统下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SQL Server 200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标准版必须运行于安装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Windows NT Server Enterprise Edition 4.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Windows NT Server  4.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Windows 2000 Server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以及更高版本的操作系统下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SQL Server 2000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个人版可在多种操作系统下运行，如可运行于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Windows 9x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，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Windows NT 4.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Windows 200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的服务器版或工作站版的操作系统下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SQL Server 2000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开发者版可运行于上述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Windows 9x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以外的所有操作系统下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08:20:07Z</dcterms:created>
  <dc:creator>haier</dc:creator>
  <dc:description/>
  <dc:language>en-US</dc:language>
  <cp:lastModifiedBy>lcb</cp:lastModifiedBy>
  <dcterms:modified xsi:type="dcterms:W3CDTF">2001-08-19T07:45:21Z</dcterms:modified>
  <cp:revision>41</cp:revision>
  <dc:subject/>
  <dc:title>第1章   SQL Server 关系数据库简介 </dc:title>
</cp:coreProperties>
</file>